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D4D7-C853-490C-90F4-98B1C75A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8901-A952-47F5-BD70-C33E41BB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1D78-78C0-4999-87F9-89CFEC26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861A-C264-4239-B717-A765AE61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1D5-0E64-4D94-B745-BA660460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5814-0CBF-46C1-9F6C-02C6E640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700-8BE2-40D1-8549-422A899A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0A72-CD9F-4C07-9924-40922D76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0083-0FBE-44F5-A26D-36477C06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3E0F-B54C-47D9-B68E-6F50C019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A8BE-B03A-4F98-B56F-5168E905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E633-4A57-4763-A3B8-D95B03DA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EF5F-0069-4FA3-A44F-8B4397A52F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earn.co.uk/" TargetMode="External"/><Relationship Id="rId2" Type="http://schemas.openxmlformats.org/officeDocument/2006/relationships/hyperlink" Target="http://www.learn.co.uk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WEIMAR REPUBLIC UNDER GUSTAV STRESEMAN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629400" y="304920"/>
            <a:ext cx="25146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y Mr Crowe</a:t>
            </a:r>
            <a:br>
              <a:rPr sz="2000"/>
            </a:b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SchoolHistory.co.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3443400" y="1828800"/>
            <a:ext cx="2256840" cy="3568680"/>
            <a:chOff x="3443400" y="1828800"/>
            <a:chExt cx="2256840" cy="3568680"/>
          </a:xfrm>
        </p:grpSpPr>
        <p:sp>
          <p:nvSpPr>
            <p:cNvPr id="45" name="Rectangle 3"/>
            <p:cNvSpPr/>
            <p:nvPr/>
          </p:nvSpPr>
          <p:spPr>
            <a:xfrm>
              <a:off x="3535200" y="1828800"/>
              <a:ext cx="216504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18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5"/>
            <p:cNvSpPr/>
            <p:nvPr/>
          </p:nvSpPr>
          <p:spPr>
            <a:xfrm>
              <a:off x="3443400" y="2056320"/>
              <a:ext cx="18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" name="Picture 4" descr="http://www.spartacus.schoolnet.co.uk/GERstreseman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0" y="609480"/>
            <a:ext cx="3370320" cy="51055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1600200" y="5791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ustav Stresemann 1878-19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685800" y="2362320"/>
            <a:ext cx="7772400" cy="3050280"/>
          </a:xfrm>
          <a:prstGeom prst="rect">
            <a:avLst/>
          </a:prstGeom>
          <a:noFill/>
          <a:ln w="25560">
            <a:solidFill>
              <a:srgbClr val="33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esemann was Chancellor in 1923 o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s main role was as Foreign Minister from 19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 was a right-winger and more able than E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 built up Germany’s prosperity again although all of Europe was recove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 signed Germany up to the Dawes Plan in 192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1523880" y="53352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THE DAWES PLAN - 1924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838080" y="1523880"/>
            <a:ext cx="7772400" cy="3606480"/>
          </a:xfrm>
          <a:prstGeom prst="rect">
            <a:avLst/>
          </a:prstGeom>
          <a:noFill/>
          <a:ln w="9360">
            <a:solidFill>
              <a:srgbClr val="000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rmany’s reparations paid over a longer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merica lent money to German industry and also to the Government to pay rep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rman currency reorgani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219320" y="3733920"/>
            <a:ext cx="83808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590920" y="373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505320" y="3733920"/>
            <a:ext cx="14475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 flipV="1">
            <a:off x="6270480" y="3744000"/>
            <a:ext cx="19591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B &amp; 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3"/>
          <p:cNvSpPr/>
          <p:nvPr/>
        </p:nvSpPr>
        <p:spPr>
          <a:xfrm>
            <a:off x="2057400" y="3962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495288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AutoShape 18"/>
          <p:cNvCxnSpPr>
            <a:stCxn id="56" idx="3"/>
            <a:endCxn id="53" idx="2"/>
          </p:cNvCxnSpPr>
          <p:nvPr/>
        </p:nvCxnSpPr>
        <p:spPr>
          <a:xfrm flipH="1">
            <a:off x="1637640" y="3939840"/>
            <a:ext cx="6590520" cy="261000"/>
          </a:xfrm>
          <a:prstGeom prst="bentConnector4">
            <a:avLst>
              <a:gd name="adj1" fmla="val -3490"/>
              <a:gd name="adj2" fmla="val 1877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Text Box 19"/>
          <p:cNvSpPr/>
          <p:nvPr/>
        </p:nvSpPr>
        <p:spPr>
          <a:xfrm>
            <a:off x="2209680" y="3581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5029200" y="35053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Rep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396252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ar deb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eign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09480" y="1905120"/>
            <a:ext cx="7848720" cy="3050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esemann showed real skill in foreign policy – 19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rno Treaties – 19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926 – Germany joined the League of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ng plan - 19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ter a number of years in the wilderness Germany was accepted back into the international commun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ocarno Tre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33520" y="175248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914400" y="1676520"/>
            <a:ext cx="769608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rmany, France, Italy, Belgium, Czechoslovakia, Poland met at Locarno in Switzer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gned a number of treaties to settle disputes between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ance, Belgium and Germany agreed to accept borders as drawn up by Treaty of Versa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hineland stayed demilitar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ance would protect Poland and Czechoslovakia if attacked by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rmany would not use force to settle disputes with neighbou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ague of 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5800" y="2133720"/>
            <a:ext cx="79246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eague of Nations was the fore runner of the Unit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aims were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vent aggression by any 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courage co-operation between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 towards international disarma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rove the living and working conditions of all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he core w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ollective security – members of the League could prevent war by acting together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features of the Stresemann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838080" y="1828800"/>
            <a:ext cx="77724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olden age of German cin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ight life, caba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moval of censo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Unemployment and poverty still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Growing prosperity based on USA loans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what would happen if USA wanted the money back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4952880" y="2133720"/>
            <a:ext cx="381240" cy="1066680"/>
          </a:xfrm>
          <a:custGeom>
            <a:avLst/>
            <a:gdLst>
              <a:gd name="textAreaLeft" fmla="*/ 0 w 381240"/>
              <a:gd name="textAreaRight" fmla="*/ 137520 w 3812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562720" y="2590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I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7772400" y="3505320"/>
            <a:ext cx="380880" cy="1295280"/>
          </a:xfrm>
          <a:custGeom>
            <a:avLst/>
            <a:gdLst>
              <a:gd name="textAreaLeft" fmla="*/ 0 w 380880"/>
              <a:gd name="textAreaRight" fmla="*/ 137520 w 3808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8305920" y="2895480"/>
            <a:ext cx="45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ything el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esemann wasn’t popular with either the extreme nationalists like Hitler and the Nazis, or with the Commun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itler disliked the League because it supported the Treaty of Versai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 both the Nazis and the Communists made little progress in these years because people were much better off and their EXTREME ideas did not appeal to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13:56:12Z</dcterms:created>
  <dc:creator>DCrowe</dc:creator>
  <dc:description/>
  <dc:language>en-US</dc:language>
  <cp:lastModifiedBy>.</cp:lastModifiedBy>
  <dcterms:modified xsi:type="dcterms:W3CDTF">2010-03-12T08:05:22Z</dcterms:modified>
  <cp:revision>8</cp:revision>
  <dc:subject/>
  <dc:title>THE WEIMAR REPUBLIC UNDER GUSTAV STRESEMANN</dc:title>
</cp:coreProperties>
</file>